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383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792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766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875F7-2138-47A9-8E36-3C8976E03D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158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06120" y="4714560"/>
            <a:ext cx="4978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158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06120" y="4714560"/>
            <a:ext cx="4978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58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906120" y="4714560"/>
            <a:ext cx="4978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58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06120" y="4714560"/>
            <a:ext cx="4978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58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06120" y="4714560"/>
            <a:ext cx="4978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158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906120" y="4714560"/>
            <a:ext cx="4978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58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06120" y="4714560"/>
            <a:ext cx="4978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158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06120" y="4714560"/>
            <a:ext cx="4978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158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906120" y="4714560"/>
            <a:ext cx="4978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158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06120" y="4714560"/>
            <a:ext cx="4978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51CB-D81B-4301-9A2D-F727898E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03992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4DD-676C-495B-9821-7F0EDE51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6944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0399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69440" y="40399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B62-A632-4E3C-9351-0EFBC5E7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5840" y="182844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1320" y="182844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0399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5840" y="40399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1320" y="40399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45C7-52E5-4FF8-BD29-95DE1D4F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D2E3-FC5B-4A4E-AEB2-80148BB6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6E9D-9DB9-4EDE-BDBD-57021491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75B7-BE2A-4D71-8B46-0BED3308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9440" y="182844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F6A7-9AFC-4473-A2B6-DFD70B80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3D58-3572-431E-8A44-0876FDFD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311040"/>
            <a:ext cx="7764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A150-E143-45CF-A94F-7C463327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69440" y="182844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40399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9EA5-60D0-49BD-82D8-ED440156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9C91-03C1-4E33-B65F-92EEBDF9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944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69440" y="40399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D239-3961-497B-854A-ECA3873C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944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03992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363A-8DCB-4EC4-A262-10D6A3F8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403992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25D5-BB33-4C26-9C9C-8634C1EB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6944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40399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69440" y="40399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C48D-D55E-4542-A7B0-2D31FCDD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5840" y="182844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1320" y="182844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40399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5840" y="40399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1320" y="40399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7F5C-561D-4C3E-A6A9-4CF8C1B5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B6C7-80E3-4946-91A5-51468E57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9440" y="182844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4F2-9D00-4BE7-ADB2-86614D30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3C93-FECF-4DF1-BBA5-27227B8F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311040"/>
            <a:ext cx="7764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1CF-025D-4C5F-97C0-1090EAD3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9440" y="182844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0399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B43-5738-4D56-A0EF-F5ED6EF5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944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69440" y="40399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48C-1233-466D-956B-CF4B8D6C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6944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03992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498-34B4-4CF2-9DDA-03521DFF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144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44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120" indent="-27792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8968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87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886C9-D6ED-4C84-A10E-B685C6916C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7794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a08366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a08366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87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a08366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a08366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8968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a08366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B5B0BA8-729C-461D-B530-E2E9B7038EC0}" type="slidenum">
              <a:rPr b="0" lang="en-GB" sz="1400" spc="-1" strike="noStrike">
                <a:solidFill>
                  <a:srgbClr val="a08366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120" indent="-27792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e9964"/>
                </a:solidFill>
                <a:latin typeface="Times New Roman"/>
              </a:rPr>
              <a:t>B.T.S. TRAVAUX PUBLIC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040" y="40384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e9964"/>
                </a:solidFill>
                <a:latin typeface="Times New Roman"/>
                <a:ea typeface="MS Gothic"/>
              </a:rPr>
              <a:t>L</a:t>
            </a:r>
            <a:r>
              <a:rPr b="0" lang="en-GB" sz="2000" spc="-1" strike="noStrike">
                <a:solidFill>
                  <a:srgbClr val="ce9964"/>
                </a:solidFill>
                <a:latin typeface="Times New Roman"/>
                <a:ea typeface="MS Gothic"/>
              </a:rPr>
              <a:t>ycé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en-GB" sz="4000" spc="-1" strike="noStrike">
                <a:solidFill>
                  <a:srgbClr val="ce9964"/>
                </a:solidFill>
                <a:latin typeface="Times New Roman"/>
                <a:ea typeface="MS Gothic"/>
              </a:rPr>
              <a:t>J</a:t>
            </a:r>
            <a:r>
              <a:rPr b="0" lang="en-GB" sz="2000" spc="-1" strike="noStrike">
                <a:solidFill>
                  <a:srgbClr val="ce9964"/>
                </a:solidFill>
                <a:latin typeface="Times New Roman"/>
                <a:ea typeface="MS Gothic"/>
              </a:rPr>
              <a:t>ea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en-GB" sz="4000" spc="-1" strike="noStrike">
                <a:solidFill>
                  <a:srgbClr val="ce9964"/>
                </a:solidFill>
                <a:latin typeface="Times New Roman"/>
                <a:ea typeface="MS Gothic"/>
              </a:rPr>
              <a:t>P</a:t>
            </a:r>
            <a:r>
              <a:rPr b="0" lang="en-GB" sz="2000" spc="-1" strike="noStrike">
                <a:solidFill>
                  <a:srgbClr val="ce9964"/>
                </a:solidFill>
                <a:latin typeface="Times New Roman"/>
                <a:ea typeface="MS Gothic"/>
              </a:rPr>
              <a:t>rou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2, rue de LOMP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59463 LO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82880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Mardi 09 décembre 200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3520" y="22860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e9964"/>
                </a:solidFill>
                <a:latin typeface="Arial Black"/>
              </a:rPr>
              <a:t>B.T.S. TRAVAUX PUBLIC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380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057400" y="1219320"/>
            <a:ext cx="5083200" cy="2030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143000" y="1676520"/>
            <a:ext cx="7521480" cy="841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7521480" cy="269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7521480" cy="1003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1143000" y="3962520"/>
            <a:ext cx="7521480" cy="2044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1143000" y="6019920"/>
            <a:ext cx="75214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dur="indefinite" fill="hold">
                      <p:stCondLst>
                        <p:cond delay="indefinite"/>
                      </p:stCondLst>
                      <p:childTnLst>
                        <p:par>
                          <p:cTn id="3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dur="indefinite" fill="hold">
                      <p:stCondLst>
                        <p:cond delay="indefinite"/>
                      </p:stCondLst>
                      <p:childTnLst>
                        <p:par>
                          <p:cTn id="3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380880"/>
            <a:ext cx="800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996633"/>
                </a:solidFill>
                <a:latin typeface="Arial Black"/>
              </a:rPr>
              <a:t>EVALUATION AU NIVEAU DES EPREUV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103880" cy="520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772400" cy="296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914400" y="1981080"/>
            <a:ext cx="7924680" cy="1155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219320" y="3200400"/>
            <a:ext cx="7226280" cy="579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952560" y="3962520"/>
            <a:ext cx="3619440" cy="2489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840200" y="4392720"/>
            <a:ext cx="3619440" cy="172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1144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e9964"/>
                </a:solidFill>
                <a:latin typeface="Times New Roman"/>
              </a:rPr>
              <a:t>B.T.S. TRAVAUX PUBLIC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83808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Arial"/>
              </a:rPr>
              <a:t>Organisation des exame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1600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402000"/>
                </a:solidFill>
                <a:latin typeface="Arial"/>
              </a:rPr>
              <a:t>E5.2 LABORATOI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0000" y="720720"/>
            <a:ext cx="4149720" cy="5867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440000" y="2392200"/>
            <a:ext cx="2725560" cy="308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042920" y="3419640"/>
            <a:ext cx="3457800" cy="1112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042920" y="5127480"/>
            <a:ext cx="3457800" cy="8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1144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e9964"/>
                </a:solidFill>
                <a:latin typeface="Times New Roman"/>
              </a:rPr>
              <a:t>B.T.S. TRAVAUX PUBLIC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762120"/>
            <a:ext cx="7543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Arial"/>
              </a:rPr>
              <a:t>Organisation des exame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1143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402000"/>
                </a:solidFill>
                <a:latin typeface="Arial"/>
              </a:rPr>
              <a:t>E5.2 LABORATOI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4270320" cy="203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65160" y="2673360"/>
            <a:ext cx="5083200" cy="203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938160" y="3419640"/>
            <a:ext cx="7521480" cy="109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938160" y="4995720"/>
            <a:ext cx="7521480" cy="584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990720" y="1676520"/>
            <a:ext cx="2725560" cy="30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1144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e9964"/>
                </a:solidFill>
                <a:latin typeface="Times New Roman"/>
              </a:rPr>
              <a:t>B.T.S. TRAVAUX PUBLIC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762120"/>
            <a:ext cx="3886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Arial"/>
              </a:rPr>
              <a:t>Organisation des examen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5638680"/>
            <a:ext cx="457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143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402000"/>
                </a:solidFill>
                <a:latin typeface="Arial"/>
              </a:rPr>
              <a:t>E5.2 LABORATOI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4560" y="1676520"/>
            <a:ext cx="3457440" cy="307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75320" y="762120"/>
            <a:ext cx="4095720" cy="579096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079640" y="2179800"/>
            <a:ext cx="3457440" cy="520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079640" y="2857680"/>
            <a:ext cx="3457440" cy="203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2160720" y="3060720"/>
            <a:ext cx="2340000" cy="393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042920" y="3757680"/>
            <a:ext cx="3457800" cy="203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2160720" y="3959280"/>
            <a:ext cx="234000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2160720" y="4319640"/>
            <a:ext cx="2340000" cy="584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2160720" y="4859280"/>
            <a:ext cx="2395440" cy="1155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1079640" y="6086520"/>
            <a:ext cx="3457440" cy="39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160" y="1144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e9964"/>
                </a:solidFill>
                <a:latin typeface="Times New Roman"/>
              </a:rPr>
              <a:t>B.T.S. TRAVAUX PUBLIC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762120"/>
            <a:ext cx="7543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Arial"/>
              </a:rPr>
              <a:t>Organisation des exame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1143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402000"/>
                </a:solidFill>
                <a:latin typeface="Arial"/>
              </a:rPr>
              <a:t>E5.2 LABORATOI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2247840" cy="308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285920" y="4684680"/>
            <a:ext cx="7521480" cy="203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340000" y="5219640"/>
            <a:ext cx="6404040" cy="766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914400" y="1676520"/>
            <a:ext cx="3457440" cy="307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60360" y="2125800"/>
            <a:ext cx="7521840" cy="393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2340000" y="2665440"/>
            <a:ext cx="6404040" cy="393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2340000" y="3095640"/>
            <a:ext cx="6404040" cy="203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2340000" y="3419640"/>
            <a:ext cx="6404040" cy="39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1144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e9964"/>
                </a:solidFill>
                <a:latin typeface="Times New Roman"/>
              </a:rPr>
              <a:t>B.T.S. TRAVAUX PUBLIC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838080"/>
            <a:ext cx="4419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Arial"/>
              </a:rPr>
              <a:t>Organisation des examen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12193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402000"/>
                </a:solidFill>
                <a:latin typeface="Arial"/>
              </a:rPr>
              <a:t>E5.2 </a:t>
            </a:r>
            <a:r>
              <a:rPr b="1" lang="en-GB" sz="2000" spc="-1" strike="noStrike">
                <a:solidFill>
                  <a:srgbClr val="402000"/>
                </a:solidFill>
                <a:latin typeface="Arial"/>
              </a:rPr>
              <a:t>LABORATOIR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457440" cy="308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0" y="838080"/>
            <a:ext cx="4094280" cy="5791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2247840" cy="241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143000" y="2438280"/>
            <a:ext cx="3152880" cy="774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143000" y="3276720"/>
            <a:ext cx="3152880" cy="583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1143000" y="3962520"/>
            <a:ext cx="3152880" cy="555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1166760" y="4680000"/>
            <a:ext cx="3152880" cy="584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1166760" y="5524560"/>
            <a:ext cx="3152880" cy="7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1144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e9964"/>
                </a:solidFill>
                <a:latin typeface="Times New Roman"/>
              </a:rPr>
              <a:t>B.T.S. TRAVAUX PUBLIC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762120"/>
            <a:ext cx="7543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Arial"/>
              </a:rPr>
              <a:t>Organisation des exame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1143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402000"/>
                </a:solidFill>
                <a:latin typeface="Arial"/>
              </a:rPr>
              <a:t>E5.2 LABORATOI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6404040" cy="784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286000" y="2438280"/>
            <a:ext cx="6404040" cy="584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286000" y="3022560"/>
            <a:ext cx="6404040" cy="203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143000" y="3225960"/>
            <a:ext cx="7521480" cy="203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286000" y="3429000"/>
            <a:ext cx="6404040" cy="774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1143000" y="4267080"/>
            <a:ext cx="7521480" cy="203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2286000" y="4495680"/>
            <a:ext cx="6404040" cy="816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2209680" y="5410080"/>
            <a:ext cx="4778640" cy="220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9"/>
          <a:stretch/>
        </p:blipFill>
        <p:spPr>
          <a:xfrm>
            <a:off x="1143000" y="5715000"/>
            <a:ext cx="7521480" cy="203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1143000" y="6019920"/>
            <a:ext cx="7521480" cy="4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1144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e9964"/>
                </a:solidFill>
                <a:latin typeface="Times New Roman"/>
              </a:rPr>
              <a:t>B.T.S. TRAVAUX PUBLIC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76212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Arial"/>
              </a:rPr>
              <a:t>Organisation des examen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5791320"/>
            <a:ext cx="457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1143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402000"/>
                </a:solidFill>
                <a:latin typeface="Arial"/>
              </a:rPr>
              <a:t>E5.2 LABORATOI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2247840" cy="307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726080" y="762120"/>
            <a:ext cx="4093920" cy="57909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114560" y="2209680"/>
            <a:ext cx="3457440" cy="393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2232000" y="2743200"/>
            <a:ext cx="2340000" cy="393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2232000" y="3276720"/>
            <a:ext cx="2340000" cy="583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1114560" y="4114800"/>
            <a:ext cx="3457440" cy="393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2239920" y="4648320"/>
            <a:ext cx="2340000" cy="203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2232000" y="5029200"/>
            <a:ext cx="2340000" cy="3938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>
            <a:off x="2232000" y="5562720"/>
            <a:ext cx="2340000" cy="39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dur="indefinite" fill="hold">
                      <p:stCondLst>
                        <p:cond delay="indefinite"/>
                      </p:stCondLst>
                      <p:childTnLst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dur="indefinite" fill="hold">
                      <p:stCondLst>
                        <p:cond delay="indefinite"/>
                      </p:stCondLst>
                      <p:childTnLst>
                        <p:par>
                          <p:cTn id="3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ef de travaux</dc:creator>
  <dc:description/>
  <dc:language>en-US</dc:language>
  <cp:lastModifiedBy>Chef de travaux</cp:lastModifiedBy>
  <cp:revision>0</cp:revision>
  <dc:subject/>
  <dc:title>B.T.S. TRAVAUX PUBLICS</dc:title>
</cp:coreProperties>
</file>